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.jpeg" ContentType="image/jpeg"/>
  <Override PartName="/ppt/media/chomp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077600" cy="93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93760" y="703080"/>
            <a:ext cx="4689360" cy="35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8910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4008240" y="8910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1942-C668-44E1-BBCA-173FECE01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11E9-4D29-485F-A79C-11EDA37B4B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C6F1-E507-4562-9EA7-71AEA82CAC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F624-4C6B-4230-A24E-E9E9CEE5C1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1C59-A60D-4B21-9315-F1ECD6612A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2E02-6091-4B5B-AAC5-48394DC2DA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F467-B8CF-43FC-927C-D20B088A87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35080" indent="-23508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cho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38E7-40D8-475D-9BA5-20C05F354D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55E3-AE9E-427F-B8AF-59D1C7810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87D9-9C70-4B94-92E7-58030461D9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39A-65C4-4FE1-A00B-C8CF0B01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DC1-BEDB-49FD-8AF5-306169BC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45F-95C2-4779-808A-600634AA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768-6EC2-4305-8246-7A3D1E58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A69-CFAC-455D-801E-6ADD9655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8B05-A21E-4AAD-8B58-A2217CF0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A1B5-C78A-46AC-80EE-94C442F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BAA7-AEAE-4297-AB59-570F5F0F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DEC2-86ED-4DB8-9B00-5D59C4B8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37DF-0D22-442E-9C82-B42DCEE5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BA2-9674-4E72-9224-03545A27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CEF3-52CD-4E0F-BEB7-9877E19F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530C-EA13-4CC2-9FD4-67AA90B6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EF0D-0724-47C3-A75A-4E25253C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4FD4-10FE-4EA7-96B1-6B50B424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DAB2-56A0-42FA-97A6-D5E7326C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2896-9D2C-4CBA-BA9C-FB7E8836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44EE-8526-4228-9183-727A3469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541-1DF0-4C1E-AC32-4CE581B0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195-6EF2-4ECB-946B-D55E989D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E5B-8C28-4782-B8AB-ADF9763D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121-B2A5-4793-A420-CE5F4D14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847-FADD-466E-AFE8-4F7C2BFD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961-DEF2-4863-A656-A3A1DA7D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F139-4990-449C-B6A8-E83E52D8D4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8920-F342-45A2-B291-C2EFBB2C56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8" descr="blue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076960" cy="17827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x the error with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m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d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ordinating conjunc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Text Box 1038"/>
          <p:cNvSpPr/>
          <p:nvPr/>
        </p:nvSpPr>
        <p:spPr>
          <a:xfrm>
            <a:off x="914400" y="22860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t">
            <a:noAutofit/>
          </a:bodyPr>
          <a:p>
            <a:pPr marL="122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shoot02b_edit.JPG"/>
          <p:cNvPicPr/>
          <p:nvPr/>
        </p:nvPicPr>
        <p:blipFill>
          <a:blip r:embed="rId1"/>
          <a:stretch/>
        </p:blipFill>
        <p:spPr>
          <a:xfrm>
            <a:off x="6019920" y="3505320"/>
            <a:ext cx="963360" cy="2743200"/>
          </a:xfrm>
          <a:prstGeom prst="rect">
            <a:avLst/>
          </a:prstGeom>
          <a:ln w="0">
            <a:noFill/>
          </a:ln>
        </p:spPr>
      </p:pic>
      <p:sp>
        <p:nvSpPr>
          <p:cNvPr id="176" name="Rounded Rectangular Callout 6"/>
          <p:cNvSpPr/>
          <p:nvPr/>
        </p:nvSpPr>
        <p:spPr>
          <a:xfrm>
            <a:off x="838080" y="4495680"/>
            <a:ext cx="2743200" cy="2133720"/>
          </a:xfrm>
          <a:prstGeom prst="wedgeRoundRectCallout">
            <a:avLst>
              <a:gd name="adj1" fmla="val 140388"/>
              <a:gd name="adj2" fmla="val -7448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ANBOYS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y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38"/>
          <p:cNvSpPr/>
          <p:nvPr/>
        </p:nvSpPr>
        <p:spPr>
          <a:xfrm>
            <a:off x="914400" y="2133720"/>
            <a:ext cx="7315200" cy="12189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ctr">
            <a:noAutofit/>
          </a:bodyPr>
          <a:p>
            <a:pPr marL="122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rt, 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bu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6002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x the error with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micol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Text Box 1038"/>
          <p:cNvSpPr/>
          <p:nvPr/>
        </p:nvSpPr>
        <p:spPr>
          <a:xfrm>
            <a:off x="914400" y="228600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shoot03_edit.jpg"/>
          <p:cNvPicPr/>
          <p:nvPr/>
        </p:nvPicPr>
        <p:blipFill>
          <a:blip r:embed="rId1"/>
          <a:stretch/>
        </p:blipFill>
        <p:spPr>
          <a:xfrm>
            <a:off x="1905120" y="3733920"/>
            <a:ext cx="1412640" cy="25146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ular Callout 6"/>
          <p:cNvSpPr/>
          <p:nvPr/>
        </p:nvSpPr>
        <p:spPr>
          <a:xfrm>
            <a:off x="4876920" y="3962520"/>
            <a:ext cx="2743200" cy="2133360"/>
          </a:xfrm>
          <a:prstGeom prst="wedgeRoundRectCallout">
            <a:avLst>
              <a:gd name="adj1" fmla="val -125625"/>
              <a:gd name="adj2" fmla="val -4261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emicol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paring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3  to 4 times per essay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038"/>
          <p:cNvSpPr/>
          <p:nvPr/>
        </p:nvSpPr>
        <p:spPr>
          <a:xfrm>
            <a:off x="914400" y="2286000"/>
            <a:ext cx="7315200" cy="1295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rt; unfortunately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16002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x the error with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ubordinate conjunc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Text Box 1038"/>
          <p:cNvSpPr/>
          <p:nvPr/>
        </p:nvSpPr>
        <p:spPr>
          <a:xfrm>
            <a:off x="914400" y="228600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shoot02b_edit.JPG"/>
          <p:cNvPicPr/>
          <p:nvPr/>
        </p:nvPicPr>
        <p:blipFill>
          <a:blip r:embed="rId1"/>
          <a:stretch/>
        </p:blipFill>
        <p:spPr>
          <a:xfrm>
            <a:off x="6400800" y="3733920"/>
            <a:ext cx="988920" cy="2819160"/>
          </a:xfrm>
          <a:prstGeom prst="rect">
            <a:avLst/>
          </a:prstGeom>
          <a:ln w="0">
            <a:noFill/>
          </a:ln>
        </p:spPr>
      </p:pic>
      <p:sp>
        <p:nvSpPr>
          <p:cNvPr id="186" name="Rounded Rectangular Callout 8"/>
          <p:cNvSpPr/>
          <p:nvPr/>
        </p:nvSpPr>
        <p:spPr>
          <a:xfrm>
            <a:off x="1981080" y="3733920"/>
            <a:ext cx="2362320" cy="2133360"/>
          </a:xfrm>
          <a:prstGeom prst="wedgeRoundRectCallout">
            <a:avLst>
              <a:gd name="adj1" fmla="val 140171"/>
              <a:gd name="adj2" fmla="val -287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two clauses to a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incomple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38"/>
          <p:cNvSpPr/>
          <p:nvPr/>
        </p:nvSpPr>
        <p:spPr>
          <a:xfrm>
            <a:off x="914400" y="2286000"/>
            <a:ext cx="7315200" cy="1295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af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are the subordinate conjunction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85800" y="1981080"/>
            <a:ext cx="38098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th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, even 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64832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[</a:t>
            </a: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plied], so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, when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, wherever, whe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5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0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25146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member 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general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unctuation rules 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ubordinating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ne of the clauses in the error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838080" y="3429000"/>
            <a:ext cx="3733920" cy="6858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6483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791320" y="3429000"/>
            <a:ext cx="2514600" cy="6858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838080" y="4419720"/>
            <a:ext cx="2438640" cy="60948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276720" y="4419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Ø 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572000" y="4419720"/>
            <a:ext cx="3733920" cy="60948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57200" y="1905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marL="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Alth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re sank a perfect basket from half court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ere’s our sample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57200" y="32004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af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ball_edit.JPG"/>
          <p:cNvPicPr/>
          <p:nvPr/>
        </p:nvPicPr>
        <p:blipFill>
          <a:blip r:embed="rId1"/>
          <a:stretch/>
        </p:blipFill>
        <p:spPr>
          <a:xfrm>
            <a:off x="2386080" y="4038480"/>
            <a:ext cx="1139760" cy="281952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ular Callout 5"/>
          <p:cNvSpPr/>
          <p:nvPr/>
        </p:nvSpPr>
        <p:spPr>
          <a:xfrm>
            <a:off x="5334120" y="4343400"/>
            <a:ext cx="3276360" cy="2286000"/>
          </a:xfrm>
          <a:prstGeom prst="wedgeRoundRectCallout">
            <a:avLst>
              <a:gd name="adj1" fmla="val -118685"/>
              <a:gd name="adj2" fmla="val -4621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Dropp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comma after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cou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like a championship game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turnov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ounded Rectangular Callout 6"/>
          <p:cNvSpPr/>
          <p:nvPr/>
        </p:nvSpPr>
        <p:spPr>
          <a:xfrm>
            <a:off x="5334120" y="4343400"/>
            <a:ext cx="3276360" cy="2286000"/>
          </a:xfrm>
          <a:prstGeom prst="wedgeRoundRectCallout">
            <a:avLst>
              <a:gd name="adj1" fmla="val -117990"/>
              <a:gd name="adj2" fmla="val -4549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Ad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unnecess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a is like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grandstan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a teammate is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op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yourturn_edit.jpg"/>
          <p:cNvPicPr/>
          <p:nvPr/>
        </p:nvPicPr>
        <p:blipFill>
          <a:blip r:embed="rId1"/>
          <a:stretch/>
        </p:blipFill>
        <p:spPr>
          <a:xfrm>
            <a:off x="5943600" y="3195720"/>
            <a:ext cx="1295280" cy="3662280"/>
          </a:xfrm>
          <a:prstGeom prst="rect">
            <a:avLst/>
          </a:prstGeom>
          <a:ln w="0">
            <a:noFill/>
          </a:ln>
        </p:spPr>
      </p:pic>
      <p:sp>
        <p:nvSpPr>
          <p:cNvPr id="207" name="Rounded Rectangular Callout 8"/>
          <p:cNvSpPr/>
          <p:nvPr/>
        </p:nvSpPr>
        <p:spPr>
          <a:xfrm>
            <a:off x="3048120" y="4191120"/>
            <a:ext cx="1676160" cy="2133360"/>
          </a:xfrm>
          <a:prstGeom prst="wedgeRoundRectCallout">
            <a:avLst>
              <a:gd name="adj1" fmla="val 147620"/>
              <a:gd name="adj2" fmla="val -5448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t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ga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9451"/>
                            </p:stCondLst>
                            <p:childTnLst>
                              <p:par>
                                <p:cTn id="5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951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ogs drooled while we ate slices of ho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a but the cat feigned nonchalance even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ough we knew that she wanted a peppero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oled.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a,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chalance. E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og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ooled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 ate slices of ho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zza b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cat feign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nonchalance ev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ough we knew that she wanted a peppero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oled.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a,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chalance. E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og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ooled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 ate slices of ho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izza, b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cat feign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nonchalance ev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ough we knew that she wanted a peppero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oled.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izza,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chalance. E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5"/>
          <p:cNvSpPr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y Ellen screamed, her roommate’s pet tarantula crawled out of the bag of popco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; because,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 as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y Ell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creamed, 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oommate’s pet tarantula crawled out of the bag of popco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; because,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 as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y Ell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creamed, 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oommate’s pet tarantula crawled out of the bag of popco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amed; because,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creamed as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nning late with dinner, Elizabeth fussed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asonings and wiped spots off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asses. While the family stared at their emp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nner; Elizab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asonings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ass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nning late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inner, Elizabe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ussed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easonings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ped spots of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lasses.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family stared at their emp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nner; Elizab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asonings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ass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nning late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inner, Elizabe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ussed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easonings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ped spots of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asses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family stared at their emp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nner; Elizab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asonings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glass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ragments, Comma Splices, and Fused Sentenc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2" name="Picture 6" descr="sitting_edit.jpg"/>
          <p:cNvPicPr/>
          <p:nvPr/>
        </p:nvPicPr>
        <p:blipFill>
          <a:blip r:embed="rId1"/>
          <a:stretch/>
        </p:blipFill>
        <p:spPr>
          <a:xfrm>
            <a:off x="2362320" y="2709720"/>
            <a:ext cx="4343400" cy="4148280"/>
          </a:xfrm>
          <a:prstGeom prst="rect">
            <a:avLst/>
          </a:prstGeom>
          <a:ln w="0">
            <a:noFill/>
          </a:ln>
        </p:spPr>
      </p:pic>
      <p:sp>
        <p:nvSpPr>
          <p:cNvPr id="133" name="Rounded Rectangular Callout 7"/>
          <p:cNvSpPr/>
          <p:nvPr/>
        </p:nvSpPr>
        <p:spPr>
          <a:xfrm>
            <a:off x="304920" y="2895480"/>
            <a:ext cx="2438280" cy="1828800"/>
          </a:xfrm>
          <a:prstGeom prst="wedgeRoundRectCallout">
            <a:avLst>
              <a:gd name="adj1" fmla="val 110129"/>
              <a:gd name="adj2" fmla="val 1574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I know if I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oo litt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entence 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477120" y="2895480"/>
            <a:ext cx="2209680" cy="1600200"/>
          </a:xfrm>
          <a:prstGeom prst="wedgeRoundRectCallout">
            <a:avLst>
              <a:gd name="adj1" fmla="val -134851"/>
              <a:gd name="adj2" fmla="val 2735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ow can I tell if I hav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oo muc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3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5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crambled off the lakeside patio. When the 10-foot alligator lumbered onto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;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,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crambled off the lakesid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tio. W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10-foot alligator lumbered onto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;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,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crambled off the lakesid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tio. W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10-foot alligator lumbered onto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atio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;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o,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glass of iced tea promised thirst-quen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eshment Roseanne, however, had to be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to the refrigerator as they raced through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ront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eshment. Rosea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ever; 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igerator;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glass of iced tea promised thirst-quen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reshment Rosean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wever, h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e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to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rigerator 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y raced throug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ront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eshment. Rosea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ever; 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igerator;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glass of iced tea promised thirst-quen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reshment. Rosean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wever, h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e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to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rigerator 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y raced throug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ront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efreshment. Rosea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ever; 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igerator;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5"/>
          <p:cNvSpPr/>
          <p:nvPr/>
        </p:nvSpPr>
        <p:spPr>
          <a:xfrm>
            <a:off x="457200" y="1752480"/>
            <a:ext cx="8229600" cy="4038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rren wanted to make a good impression on Melody but the soda explosion that soaked his shirt ruined their first mee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; but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;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,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457200" y="1752480"/>
            <a:ext cx="8229600" cy="4038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rren wanted to make a good impression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lody but the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da explosion that soaked his shirt ruined their first mee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; but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;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,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457200" y="1752480"/>
            <a:ext cx="8229600" cy="4038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rren wanted to make a good impression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lody but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da explosion that soaked his shirt ruined their first mee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; but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elody;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ody, however,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of the hot sun, ice cream ran dow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e and coated Randall’s fingers, his tongu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n’t keep 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n; ice c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gers, for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of the ho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un, ice cr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an dow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ne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ated Randall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gers,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ngu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n’t keep 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n; ice c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gers, for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457200" y="1676520"/>
            <a:ext cx="8305920" cy="48765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of the ho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un, ice cr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an dow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ne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ated Randall’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ingers, for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ngu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n’t keep 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n; ice c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fingers, for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took a deep breath and got ready to yell. Because Paul was about to explain why his half of the rent would be late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,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took a deep breath and got ready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ell. Beca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ul was about to explain why his half of the rent would be late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,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took a deep breath and got ready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ell. Beca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ul was about to explain why his half of the rent would be late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,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yell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ell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fter Simon bought roses for Emily, he spot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rek’s car in her driveway and realized that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sture would not repair the relationship or w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ck her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mily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veway.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ationship;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9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fter Simon bought roses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mily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pot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rek’s car in 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veway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alized that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sture would not repair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lationship 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ck her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mily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veway.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ationship;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fter Simon bought roses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mily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pot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rek’s car in 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veway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alized that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sture would not repair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lationship 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ck her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mily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veway.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ationship;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533520" y="1752480"/>
            <a:ext cx="80769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Larry had studied for hours; he was relieved to find a big r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the top of his grammar qu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,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533520" y="1752480"/>
            <a:ext cx="8076960" cy="4038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Larry had studied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urs;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as relieved to find a big r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the top of his grammar qu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,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33520" y="1752480"/>
            <a:ext cx="8076960" cy="4038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Larry had studied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urs;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as relieved to find a big r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the top of his grammar qu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rs.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ours,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8" descr="blue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51" name="Rounded Rectangular Callout 4"/>
          <p:cNvSpPr/>
          <p:nvPr/>
        </p:nvSpPr>
        <p:spPr>
          <a:xfrm>
            <a:off x="4495680" y="1828800"/>
            <a:ext cx="4267440" cy="3581280"/>
          </a:xfrm>
          <a:prstGeom prst="wedgeRoundRectCallout">
            <a:avLst>
              <a:gd name="adj1" fmla="val -83449"/>
              <a:gd name="adj2" fmla="val 2619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rag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omma spl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fused sent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smileman.jpg"/>
          <p:cNvPicPr/>
          <p:nvPr/>
        </p:nvPicPr>
        <p:blipFill>
          <a:blip r:embed="rId1"/>
          <a:stretch/>
        </p:blipFill>
        <p:spPr>
          <a:xfrm>
            <a:off x="990720" y="1523880"/>
            <a:ext cx="1849320" cy="507996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5181480" y="838080"/>
            <a:ext cx="3353040" cy="3505320"/>
          </a:xfrm>
          <a:prstGeom prst="wedgeRoundRectCallout">
            <a:avLst>
              <a:gd name="adj1" fmla="val -134476"/>
              <a:gd name="adj2" fmla="val -1492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covers avoid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entence frag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omma spl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fused sent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ular Callout 3"/>
          <p:cNvSpPr/>
          <p:nvPr/>
        </p:nvSpPr>
        <p:spPr>
          <a:xfrm>
            <a:off x="5181480" y="838080"/>
            <a:ext cx="3353040" cy="3505320"/>
          </a:xfrm>
          <a:prstGeom prst="wedgeRoundRectCallout">
            <a:avLst>
              <a:gd name="adj1" fmla="val -134476"/>
              <a:gd name="adj2" fmla="val -1492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will learn to recognize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complete sentenc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employ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appropriate punctu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and use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subordination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coordin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fragment, comma splice, and/or fused sentence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izzeria, Jolene eavesdropped o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gument at the next table, hot chees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scaded over her slice of pizza onto her b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eria; Jol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e while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a. O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zzeria, Jol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avesdropped o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gument at the nex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able, h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ee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scaded 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slice of pizza onto her b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eria; Jol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e while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scaded.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zzeria, Jol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avesdropped o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gument at the nex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able while h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ee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scaded 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slice of pizza onto her b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eria; Jol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able while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scaded.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7" descr="blueman.JPG"/>
          <p:cNvPicPr/>
          <p:nvPr/>
        </p:nvPicPr>
        <p:blipFill>
          <a:blip r:embed="rId1"/>
          <a:stretch/>
        </p:blipFill>
        <p:spPr>
          <a:xfrm>
            <a:off x="7848720" y="3657600"/>
            <a:ext cx="1020600" cy="3129120"/>
          </a:xfrm>
          <a:prstGeom prst="rect">
            <a:avLst/>
          </a:prstGeom>
          <a:ln w="0">
            <a:noFill/>
          </a:ln>
        </p:spPr>
      </p:pic>
      <p:sp>
        <p:nvSpPr>
          <p:cNvPr id="144" name="Rounded Rectangular Callout 18"/>
          <p:cNvSpPr/>
          <p:nvPr/>
        </p:nvSpPr>
        <p:spPr>
          <a:xfrm>
            <a:off x="4191120" y="3886200"/>
            <a:ext cx="2209680" cy="1676520"/>
          </a:xfrm>
          <a:prstGeom prst="wedgeRoundRectCallout">
            <a:avLst>
              <a:gd name="adj1" fmla="val 123398"/>
              <a:gd name="adj2" fmla="val -404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unctuation (or lack of it) a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ounded Rectangular Callout 19"/>
          <p:cNvSpPr/>
          <p:nvPr/>
        </p:nvSpPr>
        <p:spPr>
          <a:xfrm>
            <a:off x="3733920" y="3886200"/>
            <a:ext cx="2895480" cy="1676520"/>
          </a:xfrm>
          <a:prstGeom prst="wedgeRoundRectCallout">
            <a:avLst>
              <a:gd name="adj1" fmla="val 97226"/>
              <a:gd name="adj2" fmla="val -3956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a 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h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a comma splice, an error that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7"/>
          <p:cNvSpPr/>
          <p:nvPr/>
        </p:nvSpPr>
        <p:spPr>
          <a:xfrm>
            <a:off x="914400" y="21337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re practiced jump shots to impress Coach Nel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sentence must have a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ubjec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verb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complete though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8" name="Picture 7" descr="invite_edit.JPG"/>
          <p:cNvPicPr/>
          <p:nvPr/>
        </p:nvPicPr>
        <p:blipFill>
          <a:blip r:embed="rId1"/>
          <a:stretch/>
        </p:blipFill>
        <p:spPr>
          <a:xfrm>
            <a:off x="1419120" y="3124080"/>
            <a:ext cx="1908360" cy="3733920"/>
          </a:xfrm>
          <a:prstGeom prst="rect">
            <a:avLst/>
          </a:prstGeom>
          <a:ln w="0">
            <a:noFill/>
          </a:ln>
        </p:spPr>
      </p:pic>
      <p:sp>
        <p:nvSpPr>
          <p:cNvPr id="149" name="Rounded Rectangular Callout 4"/>
          <p:cNvSpPr/>
          <p:nvPr/>
        </p:nvSpPr>
        <p:spPr>
          <a:xfrm>
            <a:off x="5029200" y="4191120"/>
            <a:ext cx="3429000" cy="2133360"/>
          </a:xfrm>
          <a:prstGeom prst="wedgeRoundRectCallout">
            <a:avLst>
              <a:gd name="adj1" fmla="val -108444"/>
              <a:gd name="adj2" fmla="val -6860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nd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ubject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ractic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erb, and the thought 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 you have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entenc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11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11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27"/>
          <p:cNvSpPr/>
          <p:nvPr/>
        </p:nvSpPr>
        <p:spPr>
          <a:xfrm>
            <a:off x="990720" y="22096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r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pinning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ball to show off his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cogniz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fragment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you see on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Rectangle 1027"/>
          <p:cNvSpPr/>
          <p:nvPr/>
        </p:nvSpPr>
        <p:spPr>
          <a:xfrm>
            <a:off x="1066680" y="2209680"/>
            <a:ext cx="7010640" cy="114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pu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ball to show off his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27"/>
          <p:cNvSpPr/>
          <p:nvPr/>
        </p:nvSpPr>
        <p:spPr>
          <a:xfrm>
            <a:off x="990720" y="2209680"/>
            <a:ext cx="7162560" cy="114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Andr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pu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ball to show off his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27"/>
          <p:cNvSpPr/>
          <p:nvPr/>
        </p:nvSpPr>
        <p:spPr>
          <a:xfrm>
            <a:off x="990720" y="2209680"/>
            <a:ext cx="7162560" cy="114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r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pu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ball to show off his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spin_edit.jpg"/>
          <p:cNvPicPr/>
          <p:nvPr/>
        </p:nvPicPr>
        <p:blipFill>
          <a:blip r:embed="rId1"/>
          <a:stretch/>
        </p:blipFill>
        <p:spPr>
          <a:xfrm>
            <a:off x="6248520" y="2725560"/>
            <a:ext cx="1431720" cy="4132440"/>
          </a:xfrm>
          <a:prstGeom prst="rect">
            <a:avLst/>
          </a:prstGeom>
          <a:ln w="0">
            <a:noFill/>
          </a:ln>
        </p:spPr>
      </p:pic>
      <p:sp>
        <p:nvSpPr>
          <p:cNvPr id="156" name="Rounded Rectangular Callout 4"/>
          <p:cNvSpPr/>
          <p:nvPr/>
        </p:nvSpPr>
        <p:spPr>
          <a:xfrm>
            <a:off x="990720" y="3505320"/>
            <a:ext cx="2819160" cy="2133360"/>
          </a:xfrm>
          <a:prstGeom prst="wedgeRoundRectCallout">
            <a:avLst>
              <a:gd name="adj1" fmla="val 153212"/>
              <a:gd name="adj2" fmla="val -4695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pin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≠ a verb, so you have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fragm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ounded Rectangular Callout 9"/>
          <p:cNvSpPr/>
          <p:nvPr/>
        </p:nvSpPr>
        <p:spPr>
          <a:xfrm>
            <a:off x="990720" y="3505320"/>
            <a:ext cx="2819160" cy="2133360"/>
          </a:xfrm>
          <a:prstGeom prst="wedgeRoundRectCallout">
            <a:avLst>
              <a:gd name="adj1" fmla="val 152564"/>
              <a:gd name="adj2" fmla="val -4609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ere’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, so you still have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fra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ounded Rectangular Callout 11"/>
          <p:cNvSpPr/>
          <p:nvPr/>
        </p:nvSpPr>
        <p:spPr>
          <a:xfrm>
            <a:off x="990720" y="3505320"/>
            <a:ext cx="2819160" cy="2133360"/>
          </a:xfrm>
          <a:prstGeom prst="wedgeRoundRectCallout">
            <a:avLst>
              <a:gd name="adj1" fmla="val 153583"/>
              <a:gd name="adj2" fmla="val -4609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Yik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e thought i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ounded Rectangular Callout 13"/>
          <p:cNvSpPr/>
          <p:nvPr/>
        </p:nvSpPr>
        <p:spPr>
          <a:xfrm>
            <a:off x="990720" y="3505320"/>
            <a:ext cx="2819160" cy="2133360"/>
          </a:xfrm>
          <a:prstGeom prst="wedgeRoundRectCallout">
            <a:avLst>
              <a:gd name="adj1" fmla="val 153583"/>
              <a:gd name="adj2" fmla="val -4609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inal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, a verb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though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5541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cogniz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fused sentences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ma splic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Text Box 1038"/>
          <p:cNvSpPr/>
          <p:nvPr/>
        </p:nvSpPr>
        <p:spPr>
          <a:xfrm>
            <a:off x="533520" y="1981080"/>
            <a:ext cx="8076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533520" y="320040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,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1" descr="sprawl_edit.jpg"/>
          <p:cNvPicPr/>
          <p:nvPr/>
        </p:nvPicPr>
        <p:blipFill>
          <a:blip r:embed="rId1"/>
          <a:srcRect l="0" t="0" r="0" b="3053"/>
          <a:stretch/>
        </p:blipFill>
        <p:spPr>
          <a:xfrm>
            <a:off x="3886200" y="4435560"/>
            <a:ext cx="457200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ounded Rectangular Callout 9"/>
          <p:cNvSpPr/>
          <p:nvPr/>
        </p:nvSpPr>
        <p:spPr>
          <a:xfrm>
            <a:off x="1066680" y="4495680"/>
            <a:ext cx="2590920" cy="1905120"/>
          </a:xfrm>
          <a:prstGeom prst="wedgeRoundRectCallout">
            <a:avLst>
              <a:gd name="adj1" fmla="val 184689"/>
              <a:gd name="adj2" fmla="val -2918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canno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un together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two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tences with</a:t>
            </a:r>
            <a:r>
              <a:rPr b="0" i="1" lang="en-US" sz="2300" spc="-1" strike="noStrike">
                <a:solidFill>
                  <a:srgbClr val="000000"/>
                </a:solidFill>
                <a:latin typeface="Arial Black"/>
              </a:rPr>
              <a:t> no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nctuation!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ounded Rectangular Callout 6"/>
          <p:cNvSpPr/>
          <p:nvPr/>
        </p:nvSpPr>
        <p:spPr>
          <a:xfrm>
            <a:off x="1066680" y="4495680"/>
            <a:ext cx="2590920" cy="1905120"/>
          </a:xfrm>
          <a:prstGeom prst="wedgeRoundRectCallout">
            <a:avLst>
              <a:gd name="adj1" fmla="val 185277"/>
              <a:gd name="adj2" fmla="val -2998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an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 with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om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38"/>
          <p:cNvSpPr/>
          <p:nvPr/>
        </p:nvSpPr>
        <p:spPr>
          <a:xfrm>
            <a:off x="533520" y="1981080"/>
            <a:ext cx="8076960" cy="12956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rt unfortunate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38"/>
          <p:cNvSpPr/>
          <p:nvPr/>
        </p:nvSpPr>
        <p:spPr>
          <a:xfrm>
            <a:off x="533520" y="3200400"/>
            <a:ext cx="8076960" cy="1295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rt, unfortunate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17827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x the error with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erio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d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apital lett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Text Box 1038"/>
          <p:cNvSpPr/>
          <p:nvPr/>
        </p:nvSpPr>
        <p:spPr>
          <a:xfrm>
            <a:off x="533520" y="228600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court unfortunately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9" descr="shoot_edit.jpg"/>
          <p:cNvPicPr/>
          <p:nvPr/>
        </p:nvPicPr>
        <p:blipFill>
          <a:blip r:embed="rId1"/>
          <a:stretch/>
        </p:blipFill>
        <p:spPr>
          <a:xfrm>
            <a:off x="2590920" y="3733920"/>
            <a:ext cx="1150920" cy="2743200"/>
          </a:xfrm>
          <a:prstGeom prst="rect">
            <a:avLst/>
          </a:prstGeom>
          <a:ln w="0">
            <a:noFill/>
          </a:ln>
        </p:spPr>
      </p:pic>
      <p:sp>
        <p:nvSpPr>
          <p:cNvPr id="171" name="Rounded Rectangular Callout 12"/>
          <p:cNvSpPr/>
          <p:nvPr/>
        </p:nvSpPr>
        <p:spPr>
          <a:xfrm>
            <a:off x="6095880" y="3581280"/>
            <a:ext cx="1752840" cy="2133720"/>
          </a:xfrm>
          <a:prstGeom prst="wedgeRoundRectCallout">
            <a:avLst>
              <a:gd name="adj1" fmla="val -181398"/>
              <a:gd name="adj2" fmla="val -187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wi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erio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38"/>
          <p:cNvSpPr/>
          <p:nvPr/>
        </p:nvSpPr>
        <p:spPr>
          <a:xfrm>
            <a:off x="533520" y="2286000"/>
            <a:ext cx="8076960" cy="1295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sank a perfect basket from half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rt. Unfortunately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oach’s back was 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cp:keywords>sentence fragment comma splice fused sentence run-on grammar Grammar Bytes! Robin L. Simmons</cp:keywords>
  <dc:language>en-US</dc:language>
  <cp:lastModifiedBy>RSimmons</cp:lastModifiedBy>
  <dcterms:modified xsi:type="dcterms:W3CDTF">2010-01-04T18:22:04Z</dcterms:modified>
  <cp:revision>494</cp:revision>
  <dc:subject/>
  <dc:title>Fragments, Comma Splices, and Fused Sentences</dc:title>
</cp:coreProperties>
</file>